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DDC-ABB3-4774-BD23-E496E135A8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13F-8617-4725-B149-D16FC8ECAF4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244-7137-42EF-9305-BB5778FA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242-8B9F-4BA2-B3CA-D572130D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46D-F6CB-40B4-9809-2BA7BA5F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C74-F04E-4167-9B6F-2E75DF17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9994-5E22-40AC-B4CA-FFF8267B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0803-CDB6-4F74-976E-D5011845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AD2-A5D8-466F-93BC-3A0FBB2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8371-BD0E-4D35-953D-5F2A11A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26C-09A8-47FF-A23E-F69F780B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27BC-2DD8-42A0-BF03-60F3590E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8CD2-F5D8-4C39-B130-EF087FD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031-445C-419B-92FE-31E2A53C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C524-9C35-4261-BFB6-99BDD3F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E53A-FB32-4675-99F8-E0AD27E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8A18-6D9F-4367-B898-91055ECC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B71-80C0-4E71-BBCD-CC5D615C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5573-1721-49ED-A21C-C7F417C2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35F-2E8D-428F-8F48-03909E0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46B-4289-48CC-B4E4-1F0CF658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C27-CB27-4EA9-B429-D8C4B5FD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035-3ED6-4BB7-BFAA-D8B1345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04C-D37C-4F94-B44F-909764E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7EB-5E3C-4390-B99D-D1E8205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10D-47CF-47C7-AA57-F10AC05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56E7-A270-49E8-BDE2-626C111F993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86D-9519-4803-8458-3E86552E2B5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Los demostr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mo  posesivos y articulos determinados son determinantes de segunda mención: sitúan un sustantivo que ya ha aparecido explícita o implícitamente en un contex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3818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osposi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l demonstrativo a un sustantivo puede también tener función d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distanciamiento, desprecio o no acept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Ej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: El curso este acaba en junio, ¿ver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?). En el ejemplo, como el sustantivo ya se ha determinado por el artículo “el”, el demonstrativo sirve para expresar un punto de vista o un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valor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bre el elemento alud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n algunos casos la posposición puede tener un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valor enfátic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l chico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s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era muy simpá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l asunto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aquel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es muy impor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n el habla coloquial la funcion del demostrativo es tener un carácter deíctico-posesivo, que no corresponde con el itali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!Hola Antonio! Cómo va esa vida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Come va la vita 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Nótese el enunci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¿Te acuerdas de ese chico que tenía un manual de gramática en la man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-¿ése de pelo cor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quí, a diferencia de otras lenguas,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demostrativo no pierde su valor de seña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llevar al otro hacia algo mentalmente. Cuando sólo se trata de no repetir un sustantivo que ya ha aparecido, el español prefiere el artículo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de pelo cor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arios usos del neutro</a:t>
            </a:r>
            <a:r>
              <a:rPr b="1" lang="es-ES" sz="44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referirnos a algo que no queremos o podemos nombrar  “Esto no lo entien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referirse a un asunto ya mencionado o que está presupuesto se u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o de + infinitivo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bre propio/sustantivo/que + fr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so de dormir no me gusta – eso de Pedro me preocupa – eso que estás haciendo no me gusta nada – esto que estás diciendo es ver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s formas neutras pueden ser sujeto del verbo ser aunque el predicado nominal es femenino o plural, a diferencia del itali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sto sí que es vi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so son tonte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form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es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tiene muchas posibilidades expresiv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Hola Antonio, ?Cómo va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so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?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come va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Y eso qu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 dire 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Juan ha aprobado, y 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so qu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no ha estudiado 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En eso/ en esto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 quel mo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En eso, entraron dos muj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A eso d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 una hora aproxi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legaron a eso de las t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Y eso?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ara pedir una ex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Hoy no quiero comer nada Y e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Ni por esas :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i tampoco as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Le dije que se lo devolvería, pero ni por e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De esta 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n esta (mala) oca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e esta, mu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demás se usa 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de +  grupo nominal/ infin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+ f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usa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lugar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l hablante quiere crear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ierta distanc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tre él y la cosa a la que se refiere. Se usa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señalar que se trata de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tema que ya había aparec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djetivos demostrativos concuerdan con el sustantivo en género y número. A diferencia del artículo, cuando el sustantivo comienza por “a” o “ha” tónica, el adjetivo debe mantener la form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ta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quell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lante de é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a agua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quella 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demonstrativos pueden ir junto a un sustantivo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unción adjetiv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o estar solos en la frase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unción pronomin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. En este caso llevan acento gráf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elementos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deícticos(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ñaladores) porque señalan los seres en el espacio, en el tiempo o en el con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demostrativos, además de referirse a seres que están ante nosotros, puede aludir también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lgo o alguien que acabamos de nombrar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Ya leí la última novela de Vargas Llosa;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est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critor es magnífico. - Conversé con Luis y Juan.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 más simpático que e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Una época próxima o lejan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uando era pequeño, pasaba la Semana Santa con mis abuelos;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l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días fueron inolvidables.  -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días ha hecho mucho frí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lgo que recordamo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esposo de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ersona que nos visitó la semana pasada es un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gran piani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OMISIÓN DE LOS NOMBR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algunas ocasiones, cuando el sentido o la situación indica claramente de qué hablamos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mitimos el nombr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pronunciamos o escribimos únicamente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determinant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; así, si estoy comprando unos zapatos y digo: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gustan más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se entiende "estos zapatos". La situación indica claramente a qué objetos me refiero, por eso no pronuncio su n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vierte al determinante demostrativo en pronombre, como indican algunas gramáticas; el pronombre lo usam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lugar d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un sintagma, 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los determinantes siemp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ompaña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a un nombre tácito o explícito, pero no lo sustituy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e todos los cuadros, el que más me gusta e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est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(Se sobreentiende el nombre: e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e cuadr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¿Qué profesor te lo dijo?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qu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que está all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(Se entiende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quel profes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stá allí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¿Cómo analizar sintácticamente una oración en la que algún nombre no esté explíci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s igual que señalamos "el sujeto tácito" cuando no está escrito, pero se supone claramente, así debemos hacer con los nombres que no se mencion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nalicemos la oración </a:t>
            </a:r>
            <a:r>
              <a:rPr b="1" i="1" lang="es-ES" sz="3200" spc="-1" strike="noStrike">
                <a:solidFill>
                  <a:srgbClr val="ff0000"/>
                </a:solidFill>
                <a:latin typeface="Verdana"/>
              </a:rPr>
              <a:t>Tu</a:t>
            </a:r>
            <a:r>
              <a:rPr b="0" i="1" lang="es-ES" sz="3200" spc="-1" strike="noStrike">
                <a:solidFill>
                  <a:srgbClr val="ff0000"/>
                </a:solidFill>
                <a:latin typeface="Verdana"/>
              </a:rPr>
              <a:t> cartera es esta: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: el nombre que encierra está tácito, no está en la estructura superficial, pero se sobreentiende, o sea, está en la estructura profunda. La omisión de un nombre (no pronunciado ni escrito porque se sobreentiende) no convierte su determinante en pro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UNCIONES DE LOS DETERMINANTES DEMOSTR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den aparecer junto 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poses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ta mi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as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numer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os tr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antalon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indefinid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aquellas poc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s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dentro del sintagma nominal concurren con otros adjetivos, ocupan siempre el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primer lugar, excepto co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o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les antepone: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Todos est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dí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/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to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fácile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ejer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84582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do como punto referente casi siempre al emisor o una persona gramatical, los adjetivos señalan la proximidad o lejanía espacial o temporal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te coche, ese sig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tc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st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representa la mayor cercanía a la persona que habla,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s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a relativa proximidad al que escucha,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aque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 lejanía tanto del que habla como del que escuc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los demostrativos se indican también elementos nombrados con anterioridad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s paramos ante una casa; ‘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’ casa era gra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demostrativo tiene un valor despectivo en determinados casos, mucho más acentuado si se utiliza la forma neutra para referirse a una person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 encontró ‘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é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’; -  te presento a ‘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éste/esto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determinantes demostrativ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levan tilde nun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sté el nombre al que acompañan tácito o explíc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Est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señora se golpeó en el accidente, pero 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aquell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en ocasiones, cuando el nombre al que determinan no está en la estructura superficial, puede resultar una oración ambigu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Acaban de llegar sus invitadas; traen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st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flores para u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e caso, "estas" se interpreta como el determinante de "flore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e/a /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: cosas próximas al habl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e/a/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cosas que el hablante considera pertenecientes al interlocutor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Ej: No estoy de acuerdo con eso que d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quel/la/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cosas alejadas tanto del hablante como del interlocu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ero si nosotros nos referíamos a "estas invitadas", es decir, como determinante de un nombre tácito, es necesario que tildemos el demostr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caban de llegar sus invitadas; traen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ést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flores para u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último caso, se entenderá "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raen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estas invitadas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flores para usted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todos ellos se puede distinguir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exema o raíz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-, es-, aquell-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orfema gramatical de géne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asculi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femeni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eut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un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orfema gramatical de núme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Ø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ingu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ara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l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djetivos s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ben sin tild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ero en l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ronombres masculinos y femeni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aconsejable que la lleven para evitar ambigüedades en el texto que puedan inducir a confu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formas del neutro (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o- es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aquel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) no llevan nunca acento gráfico al no existir en español sustantivos neutros y desempeñan siempre función de pro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presentar valor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nafóric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ferencia a algo dicho anteriormente .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ú no hablas nada. 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Eso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lo que di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alor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catafóric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ferenci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algo que se dice después del contexto.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Quiero 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es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: que vengas a ve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os Demonstrativos pueden presentar las siguientes funciones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lante del sustantivo so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ctualizadore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mo el artículo. Cualquier sustantivo puede funcionar como sujeto preverbal de ellos.: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Esta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asa fue de mi abu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adjetivos son determinantes del sustantivo al que acompañan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st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ed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quellos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guas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ando van antepuestos al sustantivo impiden la aparición del artícu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etrás del sustantivo son </a:t>
            </a: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odificadores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e caso el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ctualizador es el artículo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La canción </a:t>
            </a:r>
            <a:r>
              <a:rPr b="1" i="1" lang="es-ES" sz="3200" spc="-1" strike="noStrike">
                <a:solidFill>
                  <a:srgbClr val="ff0000"/>
                </a:solidFill>
                <a:latin typeface="Verdana"/>
              </a:rPr>
              <a:t>esa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me encantó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or lo tanto si están pospuestos quieren artículo: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esa casa / la casa e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Verdana"/>
              </a:rPr>
              <a:t>(El libro este es de Oscar)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</cp:lastModifiedBy>
  <dcterms:modified xsi:type="dcterms:W3CDTF">2011-11-09T15:34:3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